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5.png" ContentType="image/png"/>
  <Override PartName="/ppt/media/image10.png" ContentType="image/png"/>
  <Override PartName="/ppt/media/image2.png" ContentType="image/png"/>
  <Override PartName="/ppt/media/type.wav" ContentType="audio/x-wav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8D4B-ABD6-43FF-80C2-B75DDC355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3503-36C1-4A58-BAE8-B527CCF1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8CE5-4A57-48C7-B741-786600368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4509-9C81-45EF-97A3-A0994921C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F8568-77D2-46C1-A982-5D9139C38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7BF05-455F-4C0D-AFD2-621C988E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B59F2-C2AD-4B68-AB6C-C5D1DFE7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1E13CE-D2EE-4CFE-A29E-576EEE72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C80F0-6807-45DF-B941-32A0CFAE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233172-689D-42CA-BD40-8EBB5984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69C6B-5B23-4FDF-8932-3A92C7A3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C469-4061-480B-BA5B-1B2AE62D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43190-EE30-47CB-BF36-A9503DC0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1861B-3C4A-4A6B-BA2E-61F9A1CD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9692B-58D9-4422-858C-2C2DC28E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20870-0CD9-483E-97DD-A54BFAFD2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5D417-EC3C-414E-85B3-CE0C69C95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FF20A-5531-49EC-B9B4-5729874B7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E8FC9-7DE4-48F9-BE13-F6BE6C62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458E4-FC7B-4292-981B-4B2CD363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B2485-67CC-4862-9BFC-0EEFE234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64497-C19F-448B-A114-E49A1947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C8F0-962B-43C2-9957-312ADBBC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48E22-71A7-476D-933D-E9E237D3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C9BAC-BC8C-4681-9F58-6748FAC7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D09F9-1C70-48C5-B6EE-CB2795A8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8CB2D-6206-49B1-8235-2CDC273D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3CA4E-DAF4-46B6-9BB6-41C7CAA7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918CF-26F9-4675-B9F3-A0C410063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0E950-C475-4009-A6D2-CC87FDA09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F0A52A-E474-458A-9387-0FBFDDEEC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BFED7E-8714-42DC-B149-ECBD24DC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422D4C-D104-4B68-B76A-69CCC607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D8A6-B189-4976-8DE6-D1470414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335176-8B75-4B23-9B62-B676D149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9C1155-3A31-4C38-A8C4-1B2EB965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264363-6F62-4F2D-8E00-FC15E7C3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2AED2D-1379-421E-821D-F22F79A0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72D144-41D1-47B2-A1A1-FB523C2E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5285CF-A6AD-413D-9112-D85EFDC5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A03070-985F-48EB-AC68-A9857B4F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EF9D88-6055-48D5-BC97-90967654F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85825E-7310-4215-9FA2-DB974EBC9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176E-B66E-4C86-BCC9-359BEFA3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3DAB-27BE-47CC-A954-D49D2E91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D8EC-3B34-46EE-BD07-8D9A41C1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685C-E9EB-4B70-AC66-81A20DB2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E06A-E009-44E5-8F0A-285C7593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9453-6A41-4F33-8085-A6A4A776EFC8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8630-A5DD-473B-8BC4-C7EB16C5CC13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B6EC-F623-44B4-A3BD-2244DF41443E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FB12-2BC8-4FE8-BCA1-45B324012145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Как физика объясняет факты из повседневной жизни?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Заголовок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2" name="typ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Constantia"/>
              </a:rPr>
              <a:t>Вопрос: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Constantia"/>
              </a:rPr>
              <a:t>За счет чего вылетает пулька из дула?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Constantia"/>
              </a:rPr>
              <a:t>Вопрос – про давление, создаваемое воздухом.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Constantia"/>
              </a:rPr>
              <a:t>Раздел физики, изучающий данное явление называется </a:t>
            </a:r>
            <a:r>
              <a:rPr b="0" lang="ru-RU" sz="3700" spc="-1" strike="noStrike">
                <a:solidFill>
                  <a:srgbClr val="f3a447"/>
                </a:solidFill>
                <a:latin typeface="Constantia"/>
              </a:rPr>
              <a:t>Молекулярная физика</a:t>
            </a:r>
            <a:r>
              <a:rPr b="0" lang="ru-RU" sz="37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9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2" name="typ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nstantia"/>
              </a:rPr>
              <a:t>Вопрос: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nstantia"/>
              </a:rPr>
              <a:t>Как выглядит пневматическая винтовка?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nstantia"/>
              </a:rPr>
              <a:t>Наши гипотезы: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nstantia"/>
              </a:rPr>
              <a:t>Как обычная винтовка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nstantia"/>
              </a:rPr>
              <a:t>Как ружье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nstantia"/>
              </a:rPr>
              <a:t>Как пулемет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nstantia"/>
              </a:rPr>
              <a:t>Как гранатомет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1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2" name="typ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Содержимое 3" descr="h_1172573789.jpg"/>
          <p:cNvPicPr/>
          <p:nvPr/>
        </p:nvPicPr>
        <p:blipFill>
          <a:blip r:embed="rId1"/>
          <a:stretch/>
        </p:blipFill>
        <p:spPr>
          <a:xfrm>
            <a:off x="719280" y="1584360"/>
            <a:ext cx="2815920" cy="3255840"/>
          </a:xfrm>
          <a:prstGeom prst="rect">
            <a:avLst/>
          </a:prstGeom>
          <a:ln w="0">
            <a:noFill/>
          </a:ln>
        </p:spPr>
      </p:pic>
      <p:pic>
        <p:nvPicPr>
          <p:cNvPr id="193" name="Заголовок 2" descr=""/>
          <p:cNvPicPr/>
          <p:nvPr/>
        </p:nvPicPr>
        <p:blipFill>
          <a:blip r:embed="rId2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4" descr="mp512-11.jpg"/>
          <p:cNvPicPr/>
          <p:nvPr/>
        </p:nvPicPr>
        <p:blipFill>
          <a:blip r:embed="rId3"/>
          <a:stretch/>
        </p:blipFill>
        <p:spPr>
          <a:xfrm>
            <a:off x="4432320" y="1584360"/>
            <a:ext cx="3468600" cy="520704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5" descr="213170.jpg"/>
          <p:cNvPicPr/>
          <p:nvPr/>
        </p:nvPicPr>
        <p:blipFill>
          <a:blip r:embed="rId4"/>
          <a:stretch/>
        </p:blipFill>
        <p:spPr>
          <a:xfrm>
            <a:off x="3718080" y="4516560"/>
            <a:ext cx="4194000" cy="3579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5" name="typ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nstantia"/>
              </a:rPr>
              <a:t>Вопрос: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nstantia"/>
              </a:rPr>
              <a:t>Какие существуют виды пневматических винтовок?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nstantia"/>
              </a:rPr>
              <a:t>Наши гипотезы: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nstantia"/>
              </a:rPr>
              <a:t>Простые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nstantia"/>
              </a:rPr>
              <a:t>Необычные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nstantia"/>
              </a:rPr>
              <a:t>Железные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nstantia"/>
              </a:rPr>
              <a:t>Воздушные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2" name="typ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Текст 1" descr=""/>
          <p:cNvPicPr/>
          <p:nvPr/>
        </p:nvPicPr>
        <p:blipFill>
          <a:blip r:embed="rId1"/>
          <a:stretch/>
        </p:blipFill>
        <p:spPr>
          <a:xfrm>
            <a:off x="347760" y="1395360"/>
            <a:ext cx="4157640" cy="7747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457200" y="2201760"/>
            <a:ext cx="403848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49760" y="2201760"/>
            <a:ext cx="403848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1" name="Заголовок 4" descr=""/>
          <p:cNvPicPr/>
          <p:nvPr/>
        </p:nvPicPr>
        <p:blipFill>
          <a:blip r:embed="rId2"/>
          <a:stretch/>
        </p:blipFill>
        <p:spPr>
          <a:xfrm>
            <a:off x="219240" y="152280"/>
            <a:ext cx="8474040" cy="115272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648320" y="1399680"/>
            <a:ext cx="4039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600" spc="-1" strike="noStrike">
              <a:solidFill>
                <a:srgbClr val="fefac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Законна ли эта развлекательная стрельба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Что помогает стрелкам точно попадать по мишеням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Что нам мешает стрелять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Заголовок 2" descr=""/>
          <p:cNvPicPr/>
          <p:nvPr/>
        </p:nvPicPr>
        <p:blipFill>
          <a:blip r:embed="rId1"/>
          <a:stretch/>
        </p:blipFill>
        <p:spPr>
          <a:xfrm>
            <a:off x="328680" y="23760"/>
            <a:ext cx="8589960" cy="1354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2" name="typ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На уроках физики мы учим теории и законы…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И иногда кажется, что эти знания не имеют никакого отношения к нашей жизни…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Давайте попробуем объяснить некоторые общеизвестные факты знаниями из физик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А для примера возьмем людей, которые увлекаются спортивно-развлекательной стрельбой. Но не самих людей а то, из чего они стреляют. То есть пневматическую винтовку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fade thruBlk="true"/>
    <p:sndAc>
      <p:stSnd>
        <p:snd r:embed="rId1" name="typ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ля чего применяют пневматическую винтовку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 какой траектории летит пулька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За счет чего пулька вылетает из дула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ак выглядит пневматическая винтовка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акие существуют виды пневматических винтовок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4" name="Заголовок 2" descr=""/>
          <p:cNvPicPr/>
          <p:nvPr/>
        </p:nvPicPr>
        <p:blipFill>
          <a:blip r:embed="rId1"/>
          <a:stretch/>
        </p:blipFill>
        <p:spPr>
          <a:xfrm>
            <a:off x="328680" y="23760"/>
            <a:ext cx="8589960" cy="1354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2" name="typ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nstantia"/>
              </a:rPr>
              <a:t>Вопрос: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nstantia"/>
              </a:rPr>
              <a:t>Для чего применяют пневматическую винтовку?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nstantia"/>
              </a:rPr>
              <a:t>Наши гипотезы: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nstantia"/>
              </a:rPr>
              <a:t>Для развлекательной стрельбы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nstantia"/>
              </a:rPr>
              <a:t>Для соревнований по стрельбе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nstantia"/>
              </a:rPr>
              <a:t>Для совершенствования навыка стрельбы (впоследствии переходу на огнестрельное охотничье оружие)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6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2" name="typ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Вопрос: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Для чего применяют пневматическую винтовку?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Её применяют во всех 3-х случаях, описанных выше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8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2" name="typ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Constantia"/>
              </a:rPr>
              <a:t>Вопрос: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Constantia"/>
              </a:rPr>
              <a:t>По какой траектории летит пулька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Constantia"/>
              </a:rPr>
              <a:t>Наши гипотезы: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Constantia"/>
              </a:rPr>
              <a:t>По прямой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Constantia"/>
              </a:rPr>
              <a:t>По кривой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Constantia"/>
              </a:rPr>
              <a:t>По круговой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0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2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Constantia"/>
              </a:rPr>
              <a:t>Вопрос: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Constantia"/>
              </a:rPr>
              <a:t>По какой траектории летит пулька?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Constantia"/>
              </a:rPr>
              <a:t>Вопрос – про движение тела брошенного под углом к горизонту.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Constantia"/>
              </a:rPr>
              <a:t>Раздел физики, изучающий данное явление называется </a:t>
            </a:r>
            <a:r>
              <a:rPr b="0" lang="ru-RU" sz="3700" spc="-1" strike="noStrike">
                <a:solidFill>
                  <a:srgbClr val="f3a447"/>
                </a:solidFill>
                <a:latin typeface="Constantia"/>
              </a:rPr>
              <a:t>Кинематика</a:t>
            </a:r>
            <a:r>
              <a:rPr b="0" lang="ru-RU" sz="37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2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2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4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3" descr="06_00-1.jpg"/>
          <p:cNvPicPr/>
          <p:nvPr/>
        </p:nvPicPr>
        <p:blipFill>
          <a:blip r:embed="rId2"/>
          <a:stretch/>
        </p:blipFill>
        <p:spPr>
          <a:xfrm>
            <a:off x="360360" y="1731960"/>
            <a:ext cx="8350200" cy="7051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3" name="typ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nstantia"/>
              </a:rPr>
              <a:t>Вопрос:</a:t>
            </a: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nstantia"/>
              </a:rPr>
              <a:t>За счет чего пулька вылетает из дула?</a:t>
            </a: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nstantia"/>
              </a:rPr>
              <a:t>Наши гипотезы:</a:t>
            </a: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nstantia"/>
              </a:rPr>
              <a:t>За счет выталкивания пульки воздухом</a:t>
            </a: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nstantia"/>
              </a:rPr>
              <a:t>За счет выкидывания пульки винтовкой</a:t>
            </a: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nstantia"/>
              </a:rPr>
              <a:t>Из за звука от выстрела</a:t>
            </a: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7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2" name="typ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04:33:06Z</dcterms:created>
  <dc:creator>26064</dc:creator>
  <dc:description/>
  <dc:language>en-US</dc:language>
  <cp:lastModifiedBy>26064</cp:lastModifiedBy>
  <dcterms:modified xsi:type="dcterms:W3CDTF">2010-05-15T04:37:30Z</dcterms:modified>
  <cp:revision>14</cp:revision>
  <dc:subject/>
  <dc:title>Попасть в «яблочко»</dc:title>
</cp:coreProperties>
</file>